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C82-2A09-4416-BDA1-EDA5CEC5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003-55F5-4ABD-90D6-83A9D88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28B-C878-436C-91EB-265C9642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472-C26B-4B3B-9D7B-C6CF56A2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F86-EFA1-4A6C-BA9B-4078BD16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035E-0635-4207-896F-8F043A04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CFB-A01C-4230-B664-2948E4A6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0B80-4CC5-440A-B798-A0AECCE0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9BC5-AC86-41C3-B2B1-8F8C29B5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16BA-4B64-4066-83D5-78593CAC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6F80-128D-48F5-9F3F-0FFC4E5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AD7-54A4-4ABD-8FFD-F17D82C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874F-D2C2-43A0-9706-9E3A50F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9EC-945A-4E1B-AEF8-D776E79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7C8-10FB-4068-92C3-A7192C9E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3C1-3AB0-4CEC-BA5F-83A60C8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72CE-1990-4615-91D7-FD5534E0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5AF-3B38-4F9E-A3FE-7C6D7C54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539-533F-4EE3-B948-D525A62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768-C474-450B-9E4E-A1CAD069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E3C-2581-4A8C-AFF2-02545A4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FE3-74F8-44AA-9191-B7AC187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C0E-8943-409C-96CA-ACDF7CC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42D-4C03-4BD2-9922-7C5B131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390-E415-4EB5-930A-9B19299D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FC4-8075-4739-A43E-430AF68F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ight Up the World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ark room with a flashlight to get your students “lighting up” their vocabulary knowled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ight Up the Wor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your flashlight and darken your 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e the light on a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reads the word.  The teacher sweeps the room with the flashlight and the students repeat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hines the light on one student, the student gives the defini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is with two teams.  Points for correct use in a sentence, or the correc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flashlight to a student who answers correctly to let them select the next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07:30Z</dcterms:modified>
  <cp:revision>1</cp:revision>
  <dc:subject/>
  <dc:title>Light Up the World A vocabulary game from Mentoring Minds Grades 1-4</dc:title>
</cp:coreProperties>
</file>